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3019B-670F-46F4-8F91-73D9430B7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72E22-3D07-43E1-AC1A-44DEDCB1E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861FF-6390-491A-AA72-A64512309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F9B4F-F6BA-474A-8C33-8EC6AE6A2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2D126-4E72-4AE4-A6E7-8FD7A31D3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7C4CA-53C2-4210-BCA1-E92E08D6E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B48F3-2728-4BA1-9B90-26B0EA55A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713CB-0167-4D9C-A17C-6C5EAE602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071E0-3B45-4F01-A5D9-9F14A17E6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13E59-B541-4DD4-9C25-9703EA6F6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E74DB-29DE-429C-9ED7-FA4D18142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8BC4B-C87E-471D-B54B-1BDA93E48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F4952-07AD-45FF-92C8-A24239F99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395A7-D020-47B4-8CC6-1438AA047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D0AB4-8C73-45EF-B609-1AECBDD9E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9C83C-05DB-45FB-AFC5-F30C4F09E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936E6-F929-41BF-8AD4-5A8276B58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CED06-493F-4725-B7F5-72CC13EFA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906F2-332B-4C13-A177-D2DC0CC4E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67ECB-7240-4BEB-9250-FFB03EE4B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DB944-2B0E-4AE7-8BF5-5BC52ADB2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277A6-7234-4F05-AB10-F42277547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2027D-A877-429F-B52A-690CBE157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B9763-F8DB-427B-8A0F-C58576CC6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5DB1-C0E0-46D4-A0A9-A1F16E1C111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4C86-70CA-48A3-A370-D1E3407C6A12}"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685440"/>
            <a:ext cx="7848360" cy="2057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Antarctica</a:t>
            </a:r>
            <a:endParaRPr b="0" lang="en-US" sz="5400" spc="-1" strike="noStrike">
              <a:solidFill>
                <a:srgbClr val="ccecff"/>
              </a:solidFill>
              <a:latin typeface="Arial"/>
            </a:endParaRPr>
          </a:p>
        </p:txBody>
      </p:sp>
      <p:sp>
        <p:nvSpPr>
          <p:cNvPr id="212" name="PlaceHolder 2"/>
          <p:cNvSpPr>
            <a:spLocks noGrp="1"/>
          </p:cNvSpPr>
          <p:nvPr>
            <p:ph type="subTitle"/>
          </p:nvPr>
        </p:nvSpPr>
        <p:spPr>
          <a:xfrm>
            <a:off x="1447920" y="3657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ldest place on Ear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enguins!</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 Antarctica there's some penguins but, in Antarctica there's only Emperor penguins and Adele penguins. Adele Penguins are babies and the Emperor is an adult. Penguins also look like there wearing tuxed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Blue whales Killer Whales!</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Killer whales and Blue whales are the only whales that live in Antarctica! Killer whales don’t actually kill humans for some reas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lue whales are not easy to catch krill (like little praw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Seals!</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3T06:27:21Z</dcterms:created>
  <dc:creator>OEM</dc:creator>
  <dc:description/>
  <dc:language>en-US</dc:language>
  <cp:lastModifiedBy>OEM</cp:lastModifiedBy>
  <dcterms:modified xsi:type="dcterms:W3CDTF">2015-11-23T07:30:49Z</dcterms:modified>
  <cp:revision>2</cp:revision>
  <dc:subject/>
  <dc:title>Antarctica</dc:title>
</cp:coreProperties>
</file>